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57BE-981F-4D01-8357-5A354AE17D2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82BA6-1033-430C-955F-65F688D262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1F046-6DAF-45B4-B4C2-2DBA94A4EA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1087-00D5-40B4-87CF-AF445BF20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2E399-DD27-4793-A6E8-4D354C6402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include an image here? What sort of image has Pat chosen here? How does the image illustrate the point Pat is mak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hy did Pat use this type of image? What effect would it have if Pat replaced it with a different kind of imag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ED4D-0CC2-4A7C-B1B0-12BB3C5C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1AD2-7389-4A1D-9820-54EC3F19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0E94B-E51F-4DAC-8F1A-0C52DEDD7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9DFB-5E52-49F4-B571-22CFCC111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80EC-3910-4087-8340-480EFC1A9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DE2E-6EC8-45C9-9491-6494566D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E365-EE81-4449-9491-577BFCED3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2B7-C077-444C-8140-3FDD9A274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4B3F-8BF4-4019-9D5F-084862D2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696E-AFB4-4808-A2AA-B4054738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53A6-91A5-4167-8CE6-9032A905E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AC2E-C4D8-412C-84A6-133BA12D3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3DFB-6519-4B1E-AED6-9638607F609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800" spc="-1" strike="noStrike">
                <a:solidFill>
                  <a:srgbClr val="000000"/>
                </a:solidFill>
                <a:latin typeface="Blackadder ITC"/>
              </a:rPr>
              <a:t>About me</a:t>
            </a:r>
            <a:endParaRPr b="0" lang="en-US" sz="1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By P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an00790_"/>
          <p:cNvPicPr/>
          <p:nvPr/>
        </p:nvPicPr>
        <p:blipFill>
          <a:blip r:embed="rId1"/>
          <a:stretch/>
        </p:blipFill>
        <p:spPr>
          <a:xfrm>
            <a:off x="5562720" y="3581280"/>
            <a:ext cx="25635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name is Pat Sm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I live at 45 West street in Newtown by the post office in a house with a blue door and three bedroo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mum works for the post office and goes to work very early every day and I have to get breakfast for Ja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My best friend likes football and chips and his dad’s car and going to his nan’s house on sundays except when Jamie is there because she’s always getting everyone into troub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pe01832_"/>
          <p:cNvPicPr/>
          <p:nvPr/>
        </p:nvPicPr>
        <p:blipFill>
          <a:blip r:embed="rId1"/>
          <a:stretch/>
        </p:blipFill>
        <p:spPr>
          <a:xfrm>
            <a:off x="5562720" y="3886200"/>
            <a:ext cx="2744640" cy="2508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en00354_"/>
          <p:cNvPicPr/>
          <p:nvPr/>
        </p:nvPicPr>
        <p:blipFill>
          <a:blip r:embed="rId2"/>
          <a:stretch/>
        </p:blipFill>
        <p:spPr>
          <a:xfrm>
            <a:off x="762120" y="4267080"/>
            <a:ext cx="259056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fami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dad lives in Sp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My sister is younger than me and is a pain in the ne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have got three cats called Tommy fred and tibb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We got our dog from the rescue centre because he had been abado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mp00640_"/>
          <p:cNvPicPr/>
          <p:nvPr/>
        </p:nvPicPr>
        <p:blipFill>
          <a:blip r:embed="rId1"/>
          <a:stretch/>
        </p:blipFill>
        <p:spPr>
          <a:xfrm>
            <a:off x="4800600" y="2895480"/>
            <a:ext cx="3483000" cy="34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bb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otba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pe01659_"/>
          <p:cNvPicPr/>
          <p:nvPr/>
        </p:nvPicPr>
        <p:blipFill>
          <a:blip r:embed="rId1"/>
          <a:stretch/>
        </p:blipFill>
        <p:spPr>
          <a:xfrm>
            <a:off x="2971800" y="1523880"/>
            <a:ext cx="5303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chool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Jokerman"/>
              </a:rPr>
              <a:t>I liked my last sch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Narrow"/>
              </a:rPr>
              <a:t>Miss jones was great but mr best was horrid and he got cross when I talk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ernard MT Condensed"/>
              </a:rPr>
              <a:t>I liked maths but not history or geograph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바탕"/>
              </a:rPr>
              <a:t>My school was near here, just round the corn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bd00146_"/>
          <p:cNvPicPr/>
          <p:nvPr/>
        </p:nvPicPr>
        <p:blipFill>
          <a:blip r:embed="rId1"/>
          <a:stretch/>
        </p:blipFill>
        <p:spPr>
          <a:xfrm>
            <a:off x="6172200" y="0"/>
            <a:ext cx="2743200" cy="2720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bs00554_"/>
          <p:cNvPicPr/>
          <p:nvPr/>
        </p:nvPicPr>
        <p:blipFill>
          <a:blip r:embed="rId2"/>
          <a:stretch/>
        </p:blipFill>
        <p:spPr>
          <a:xfrm>
            <a:off x="0" y="0"/>
            <a:ext cx="2514600" cy="2193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bs00559_"/>
          <p:cNvPicPr/>
          <p:nvPr/>
        </p:nvPicPr>
        <p:blipFill>
          <a:blip r:embed="rId3"/>
          <a:stretch/>
        </p:blipFill>
        <p:spPr>
          <a:xfrm>
            <a:off x="6019920" y="5505480"/>
            <a:ext cx="238572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10:06:14Z</dcterms:created>
  <dc:creator>peter</dc:creator>
  <dc:description/>
  <dc:language>en-US</dc:language>
  <cp:lastModifiedBy>BRYAN, C (SHS Teacher)</cp:lastModifiedBy>
  <dcterms:modified xsi:type="dcterms:W3CDTF">2020-09-30T15:32:43Z</dcterms:modified>
  <cp:revision>2</cp:revision>
  <dc:subject/>
  <dc:title>Pat’s Presentation</dc:title>
</cp:coreProperties>
</file>